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099300" cy="10234613"/>
  <p:custShowLst>
    <p:custShow name="RTL8367RB" id="0">
      <p:sldLst>
        <p:sld r:id="rId3"/>
        <p:sld r:id="rId15"/>
        <p:sld r:id="rId14"/>
        <p:sld r:id="rId1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FB172-009D-4D8D-A0F3-A68B18348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8600" y="36604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6A068-E186-4A00-A5B1-313C5015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0000" y="36604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10611-CE51-4FEA-A66B-D86A95FAE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65840" y="9140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02720" y="9140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28600" y="36604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65840" y="36604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02720" y="36604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9FCFB-43E7-48B3-BE03-D49BC25BC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FA845-E550-4960-B03A-F7213A7B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EFE4F-E708-49A5-8676-492151F5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A104B-A132-4021-9DEF-93060990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B4BEE-DB83-45C3-BD99-A7B8600E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763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E2F6D-A9DA-4B46-A8F7-29305901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7B470-48F7-4A80-9FF8-0EFEF18C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0000" y="36604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603F2-F7DF-4211-9878-03F2A3F7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ECB13-DEFC-4F95-BF7C-B9FFB57A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49926663-249A-4CC0-9844-D19C8FC2DD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2"/>
          </p:nvPr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Realtek Semiconductor Cor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3"/>
          </p:nvPr>
        </p:nvSpPr>
        <p:spPr>
          <a:xfrm>
            <a:off x="56160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r>
              <a:rPr b="0" lang="zh-TW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26920" indent="-2854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35160" indent="-22860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43040" indent="-22860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8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" name="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rtdomain/fs/CN_Switch/Project/&#26032;&#25163;&#25078;&#20154;&#21253;/V0.0.7/02_CodingConvention.pdf" TargetMode="External"/><Relationship Id="rId3" Type="http://schemas.openxmlformats.org/officeDocument/2006/relationships/hyperlink" Target="file://rtdomain/fs/CN_Switch/Project/&#26032;&#25163;&#25078;&#20154;&#21253;/V0.0.7/02_CodingConvention.pdf" TargetMode="External"/><Relationship Id="rId4" Type="http://schemas.openxmlformats.org/officeDocument/2006/relationships/hyperlink" Target="file://rtdomain/fs/CN_Switch/Project/&#26032;&#25163;&#25078;&#20154;&#21253;/V0.0.7/02_CodingConvention.pdf" TargetMode="External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2700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60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Apollo SDK Driver Develop SOP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492000" y="4508280"/>
            <a:ext cx="507204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r">
              <a:lnSpc>
                <a:spcPct val="9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lnSpc>
                <a:spcPct val="9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Century Gothic"/>
                <a:ea typeface="新細明體"/>
              </a:rPr>
              <a:t>2011/09/05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lnSpc>
                <a:spcPct val="9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Century Gothic"/>
                <a:ea typeface="新細明體"/>
              </a:rPr>
              <a:t>Happa Li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1BFC1-0A28-4449-BD05-703A37241CEE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A665C07-8EDC-429B-8124-E7DE82D71176}" type="datetime1">
              <a:rPr lang="en-US"/>
              <a:t>07/29/26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99"/>
                </a:solidFill>
                <a:latin typeface="Calibri"/>
              </a:rPr>
              <a:t>Register Access Apollo raw driver coding </a:t>
            </a:r>
            <a:r>
              <a:rPr b="1" lang="zh-TW" sz="2800" spc="-1" strike="noStrike">
                <a:solidFill>
                  <a:srgbClr val="0033cc"/>
                </a:solidFill>
                <a:latin typeface="Calibri"/>
              </a:rPr>
              <a:t>準則</a:t>
            </a:r>
            <a:r>
              <a:rPr b="1" lang="zh-TW" sz="2800" spc="-1" strike="noStrike">
                <a:solidFill>
                  <a:srgbClr val="0033cc"/>
                </a:solidFill>
                <a:latin typeface="Calibri"/>
              </a:rPr>
              <a:t>:</a:t>
            </a:r>
            <a:endParaRPr b="1" lang="en-US" sz="2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Calibri"/>
              </a:rPr>
              <a:t>若同時對同一個</a:t>
            </a:r>
            <a:r>
              <a:rPr b="0" lang="zh-TW" sz="2000" spc="-1" strike="noStrike">
                <a:solidFill>
                  <a:srgbClr val="0033cc"/>
                </a:solidFill>
                <a:latin typeface="Calibri"/>
              </a:rPr>
              <a:t>register </a:t>
            </a:r>
            <a:r>
              <a:rPr b="0" lang="zh-TW" sz="2000" spc="-1" strike="noStrike">
                <a:solidFill>
                  <a:srgbClr val="0033cc"/>
                </a:solidFill>
                <a:latin typeface="Calibri"/>
              </a:rPr>
              <a:t>讀多個</a:t>
            </a:r>
            <a:r>
              <a:rPr b="0" lang="zh-TW" sz="2000" spc="-1" strike="noStrike">
                <a:solidFill>
                  <a:srgbClr val="0033cc"/>
                </a:solidFill>
                <a:latin typeface="Calibri"/>
              </a:rPr>
              <a:t>fi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Calibri"/>
              </a:rPr>
              <a:t>請直接用 </a:t>
            </a:r>
            <a:r>
              <a:rPr b="0" lang="zh-TW" sz="2000" spc="-1" strike="noStrike">
                <a:solidFill>
                  <a:srgbClr val="ff0000"/>
                </a:solidFill>
                <a:latin typeface="Calibri"/>
              </a:rPr>
              <a:t>reg_array_field_read/ reg_field_re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Calibri"/>
              </a:rPr>
              <a:t>直接對</a:t>
            </a:r>
            <a:r>
              <a:rPr b="0" lang="zh-TW" sz="2000" spc="-1" strike="noStrike">
                <a:solidFill>
                  <a:srgbClr val="ff0000"/>
                </a:solidFill>
                <a:latin typeface="Calibri"/>
              </a:rPr>
              <a:t>ASIC </a:t>
            </a:r>
            <a:r>
              <a:rPr b="0" lang="zh-TW" sz="2000" spc="-1" strike="noStrike">
                <a:solidFill>
                  <a:srgbClr val="ff0000"/>
                </a:solidFill>
                <a:latin typeface="Calibri"/>
              </a:rPr>
              <a:t>做多次讀的動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Calibri"/>
              </a:rPr>
              <a:t>若同時對同一個</a:t>
            </a:r>
            <a:r>
              <a:rPr b="0" lang="zh-TW" sz="2000" spc="-1" strike="noStrike">
                <a:solidFill>
                  <a:srgbClr val="0033cc"/>
                </a:solidFill>
                <a:latin typeface="Calibri"/>
              </a:rPr>
              <a:t>register </a:t>
            </a:r>
            <a:r>
              <a:rPr b="0" lang="zh-TW" sz="2000" spc="-1" strike="noStrike">
                <a:solidFill>
                  <a:srgbClr val="0033cc"/>
                </a:solidFill>
                <a:latin typeface="Calibri"/>
              </a:rPr>
              <a:t>讀多個</a:t>
            </a:r>
            <a:r>
              <a:rPr b="0" lang="zh-TW" sz="2000" spc="-1" strike="noStrike">
                <a:solidFill>
                  <a:srgbClr val="0033cc"/>
                </a:solidFill>
                <a:latin typeface="Calibri"/>
              </a:rPr>
              <a:t>fi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Calibri"/>
              </a:rPr>
              <a:t>請直接用 </a:t>
            </a:r>
            <a:r>
              <a:rPr b="0" lang="zh-TW" sz="2000" spc="-1" strike="noStrike">
                <a:solidFill>
                  <a:srgbClr val="ff0000"/>
                </a:solidFill>
                <a:latin typeface="Calibri"/>
              </a:rPr>
              <a:t>reg_array_field_write/ reg_field_wri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Calibri"/>
              </a:rPr>
              <a:t>直接對</a:t>
            </a:r>
            <a:r>
              <a:rPr b="0" lang="zh-TW" sz="2000" spc="-1" strike="noStrike">
                <a:solidFill>
                  <a:srgbClr val="ff0000"/>
                </a:solidFill>
                <a:latin typeface="Calibri"/>
              </a:rPr>
              <a:t>ASIC </a:t>
            </a:r>
            <a:r>
              <a:rPr b="0" lang="zh-TW" sz="2000" spc="-1" strike="noStrike">
                <a:solidFill>
                  <a:srgbClr val="ff0000"/>
                </a:solidFill>
                <a:latin typeface="Calibri"/>
              </a:rPr>
              <a:t>做多次寫的動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Calibri"/>
              </a:rPr>
              <a:t>(note:</a:t>
            </a:r>
            <a:r>
              <a:rPr b="0" lang="zh-TW" sz="2000" spc="-1" strike="noStrike">
                <a:solidFill>
                  <a:srgbClr val="0033cc"/>
                </a:solidFill>
                <a:latin typeface="Calibri"/>
              </a:rPr>
              <a:t>有</a:t>
            </a:r>
            <a:r>
              <a:rPr b="0" lang="zh-TW" sz="2000" spc="-1" strike="noStrike">
                <a:solidFill>
                  <a:srgbClr val="0033cc"/>
                </a:solidFill>
                <a:latin typeface="Calibri"/>
              </a:rPr>
              <a:t>valid bit </a:t>
            </a:r>
            <a:r>
              <a:rPr b="0" lang="zh-TW" sz="2000" spc="-1" strike="noStrike">
                <a:solidFill>
                  <a:srgbClr val="0033cc"/>
                </a:solidFill>
                <a:latin typeface="Calibri"/>
              </a:rPr>
              <a:t>觀念的</a:t>
            </a:r>
            <a:r>
              <a:rPr b="0" lang="zh-TW" sz="2000" spc="-1" strike="noStrike">
                <a:solidFill>
                  <a:srgbClr val="0033cc"/>
                </a:solidFill>
                <a:latin typeface="Calibri"/>
              </a:rPr>
              <a:t>register RAW driver </a:t>
            </a:r>
            <a:r>
              <a:rPr b="0" lang="zh-TW" sz="2000" spc="-1" strike="noStrike">
                <a:solidFill>
                  <a:srgbClr val="0033cc"/>
                </a:solidFill>
                <a:latin typeface="Calibri"/>
              </a:rPr>
              <a:t>在</a:t>
            </a:r>
            <a:r>
              <a:rPr b="0" lang="zh-TW" sz="2000" spc="-1" strike="noStrike">
                <a:solidFill>
                  <a:srgbClr val="0033cc"/>
                </a:solidFill>
                <a:latin typeface="Calibri"/>
              </a:rPr>
              <a:t>coding </a:t>
            </a:r>
            <a:r>
              <a:rPr b="0" lang="zh-TW" sz="2000" spc="-1" strike="noStrike">
                <a:solidFill>
                  <a:srgbClr val="0033cc"/>
                </a:solidFill>
                <a:latin typeface="Calibri"/>
              </a:rPr>
              <a:t>時需特別注意</a:t>
            </a:r>
            <a:r>
              <a:rPr b="0" lang="zh-TW" sz="2000" spc="-1" strike="noStrike">
                <a:solidFill>
                  <a:srgbClr val="0033cc"/>
                </a:solidFill>
                <a:latin typeface="Calibri"/>
              </a:rPr>
              <a:t>!!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C5ABD-E001-420A-82A9-2D5BD3975A5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86CC2F3-224D-4A81-AF6B-CFC62AD68D84}" type="datetime1">
              <a:rPr lang="en-US"/>
              <a:t>07/29/26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Table Access Utility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68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cc"/>
                </a:solidFill>
                <a:latin typeface="Calibri"/>
              </a:rPr>
              <a:t>Direct ASIC Ac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int32 table_read(uint32 </a:t>
            </a:r>
            <a:r>
              <a:rPr b="0" lang="zh-TW" sz="1800" spc="-1" strike="noStrike">
                <a:solidFill>
                  <a:srgbClr val="ff0000"/>
                </a:solidFill>
                <a:latin typeface="Calibri"/>
              </a:rPr>
              <a:t>table</a:t>
            </a: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,uint32 addr,uint32 *pDat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int32 table_write(uint32 table,uint32 addr,uint32 *pDat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cc"/>
                </a:solidFill>
                <a:latin typeface="Calibri"/>
              </a:rPr>
              <a:t>RAM Buffer Ac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int32 table_field_get(uint32  table,uint32 </a:t>
            </a:r>
            <a:r>
              <a:rPr b="0" lang="zh-TW" sz="1800" spc="-1" strike="noStrike">
                <a:solidFill>
                  <a:srgbClr val="0033cc"/>
                </a:solidFill>
                <a:latin typeface="Calibri"/>
              </a:rPr>
              <a:t>field</a:t>
            </a: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,uint32 *pValue,uint32  *pDat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int32 table_field_set(uint32  table,uint32 field,uint32 *pValue,uint32  *pDat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int32 table_field_byte_get(uint32 table,uint32 field,uint8 *pValue,uint32 *pDat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int32 table_field_byte_set(uint32  table,uint32 field,uint8 *pValue,uint32 *pDat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int32 table_field_mac_get(uint32 table,uint32 field,uint8 *pValue,uint32 *pDat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int32 table_field_mac_set(uint32 table,uint32 field,uint8 *pValue,uint32 *pDat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int32 table_size_get(uint32 table,uint32 *pSiz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0000"/>
                </a:solidFill>
                <a:latin typeface="Calibri"/>
              </a:rPr>
              <a:t>Table</a:t>
            </a: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zh-TW" sz="1800" spc="-1" strike="noStrike">
                <a:solidFill>
                  <a:srgbClr val="0033cc"/>
                </a:solidFill>
                <a:latin typeface="Calibri"/>
              </a:rPr>
              <a:t>field</a:t>
            </a: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 define in “</a:t>
            </a:r>
            <a:r>
              <a:rPr b="0" lang="zh-TW" sz="1800" spc="-1" strike="noStrike">
                <a:solidFill>
                  <a:srgbClr val="ff0000"/>
                </a:solidFill>
                <a:latin typeface="Calibri"/>
              </a:rPr>
              <a:t>apollo_table_struct.h</a:t>
            </a: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API </a:t>
            </a: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的填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table   </a:t>
            </a:r>
            <a:r>
              <a:rPr b="0" lang="zh-TW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TW" sz="1800" spc="-1" strike="noStrike">
                <a:solidFill>
                  <a:srgbClr val="0033cc"/>
                </a:solidFill>
                <a:latin typeface="Calibri"/>
              </a:rPr>
              <a:t>TABLE_NAM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8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field  </a:t>
            </a:r>
            <a:r>
              <a:rPr b="0" lang="zh-TW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TW" sz="1800" spc="-1" strike="noStrike">
                <a:solidFill>
                  <a:srgbClr val="339933"/>
                </a:solidFill>
                <a:latin typeface="Calibri"/>
              </a:rPr>
              <a:t>TABLE_NAME</a:t>
            </a: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_</a:t>
            </a:r>
            <a:r>
              <a:rPr b="0" lang="zh-TW" sz="1800" spc="-1" strike="noStrike">
                <a:solidFill>
                  <a:srgbClr val="0033cc"/>
                </a:solidFill>
                <a:latin typeface="Calibri"/>
              </a:rPr>
              <a:t>FILED_NAME</a:t>
            </a:r>
            <a:r>
              <a:rPr b="0" lang="zh-TW" sz="1800" spc="-1" strike="noStrike">
                <a:solidFill>
                  <a:srgbClr val="ff0000"/>
                </a:solidFill>
                <a:latin typeface="Calibri"/>
              </a:rPr>
              <a:t>t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C145B-1929-4A57-B3B7-322BD770FDC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3228823-F3AA-4D64-8089-28E4759316F0}" type="datetime1">
              <a:rPr lang="en-US"/>
              <a:t>07/29/26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Table entry size define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Add table entry define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26920" indent="-285480">
              <a:lnSpc>
                <a:spcPct val="95000"/>
              </a:lnSpc>
              <a:spcBef>
                <a:spcPts val="312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apollo\sdk\include\hal\chipdef\allmem.h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Ex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26920" indent="-285480">
              <a:lnSpc>
                <a:spcPct val="95000"/>
              </a:lnSpc>
              <a:spcBef>
                <a:spcPts val="312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MEM_ENTRY_DECLARE(</a:t>
            </a:r>
            <a:r>
              <a:rPr b="0" lang="zh-TW" sz="1700" spc="-1" strike="noStrike">
                <a:solidFill>
                  <a:srgbClr val="0033cc"/>
                </a:solidFill>
                <a:latin typeface="Calibri"/>
              </a:rPr>
              <a:t>vlan_entry_t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zh-TW" sz="17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5148360" y="2781360"/>
            <a:ext cx="2881080" cy="360360"/>
          </a:xfrm>
          <a:prstGeom prst="wedgeRectCallout">
            <a:avLst>
              <a:gd name="adj1" fmla="val -52370"/>
              <a:gd name="adj2" fmla="val -17334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Impact"/>
              </a:rPr>
              <a:t>32bits  x </a:t>
            </a:r>
            <a:r>
              <a:rPr b="0" lang="en-US" sz="1400" spc="-1" strike="noStrike">
                <a:solidFill>
                  <a:srgbClr val="ff0000"/>
                </a:solidFill>
                <a:latin typeface="Impact"/>
              </a:rPr>
              <a:t>2</a:t>
            </a:r>
            <a:r>
              <a:rPr b="0" lang="en-US" sz="1400" spc="-1" strike="noStrike">
                <a:solidFill>
                  <a:srgbClr val="4d4d4d"/>
                </a:solidFill>
                <a:latin typeface="Impac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2F917-1234-4CB8-8117-3F1C7D1FCD2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7414D79-4720-4812-9397-063EB66030D2}" type="datetime1">
              <a:rPr lang="en-US"/>
              <a:t>07/29/26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Error code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Common err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26920" indent="-285480">
              <a:lnSpc>
                <a:spcPct val="95000"/>
              </a:lnSpc>
              <a:spcBef>
                <a:spcPts val="312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apollo\sdk\system\include\common\error.h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826920" indent="0">
              <a:lnSpc>
                <a:spcPct val="95000"/>
              </a:lnSpc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Module err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26920" indent="-285480">
              <a:lnSpc>
                <a:spcPct val="95000"/>
              </a:lnSpc>
              <a:spcBef>
                <a:spcPts val="312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apollo\sdk\include\common\rt_error.h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826920" indent="-285480">
              <a:lnSpc>
                <a:spcPct val="95000"/>
              </a:lnSpc>
              <a:spcBef>
                <a:spcPts val="312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Module 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特有的 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error cod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826920" indent="0">
              <a:lnSpc>
                <a:spcPct val="95000"/>
              </a:lnSpc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增加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error code 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時也要增加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error st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26920" indent="-285480">
              <a:lnSpc>
                <a:spcPct val="95000"/>
              </a:lnSpc>
              <a:spcBef>
                <a:spcPts val="312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apollo\sdk\src\common\rt_error.c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826920" indent="-285480">
              <a:lnSpc>
                <a:spcPct val="95000"/>
              </a:lnSpc>
              <a:spcBef>
                <a:spcPts val="312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rt_error_numToSt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40B04-65C8-4732-8A5D-3529D8DA2A5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494D1E7-AF22-4CCD-8D22-D2D9EF11648D}" type="datetime1">
              <a:rPr lang="en-US"/>
              <a:t>07/29/26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oding Guide for RAW Driver – data type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Common type </a:t>
            </a:r>
            <a:r>
              <a:rPr b="0" lang="zh-TW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 rt_type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26920" indent="-285480">
              <a:lnSpc>
                <a:spcPct val="95000"/>
              </a:lnSpc>
              <a:spcBef>
                <a:spcPts val="312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apollo\sdk\system\include\common\type.h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826920" indent="-285480">
              <a:lnSpc>
                <a:spcPct val="95000"/>
              </a:lnSpc>
              <a:spcBef>
                <a:spcPts val="312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apollo\sdk\include\common\rt_type.h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826920" indent="-285480">
              <a:lnSpc>
                <a:spcPct val="95000"/>
              </a:lnSpc>
              <a:spcBef>
                <a:spcPts val="312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apollo\sdk\include\dal\apollo\raw\apollo_raw.h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若 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data structure type 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與 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RTK API 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相同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請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define 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在 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RTK layer (module)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RAW driver 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與 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RTK API 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共用此 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data typ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Naming 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請用 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apollo_raw_XXX  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開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若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RAW driver 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特有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直接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define 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於 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apollo_raw_(module)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enum 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內容請加  </a:t>
            </a:r>
            <a:r>
              <a:rPr b="0" lang="zh-TW" sz="2000" spc="-1" strike="noStrike">
                <a:solidFill>
                  <a:srgbClr val="ff0000"/>
                </a:solidFill>
                <a:latin typeface="Calibri"/>
              </a:rPr>
              <a:t>RAW_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  prefi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Data structure 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內的 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member 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請全部用 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unit32, 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方便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coding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CAA56-3A40-44F9-A4AC-84CE3959C13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E46982E-2D69-4FAE-9513-A78D0D5B56B4}" type="datetime1">
              <a:rPr lang="en-US"/>
              <a:t>07/29/26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Entry index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Index 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是否放在 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structure 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中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26920" indent="-285480">
              <a:lnSpc>
                <a:spcPct val="95000"/>
              </a:lnSpc>
              <a:spcBef>
                <a:spcPts val="312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RAW driver index 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放在裡面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RTK API 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另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76A5A-1D0B-4B40-BA1D-F7A8D45A4A5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A3D01FC-AD76-42CF-B8F2-9D5FA583501D}" type="datetime1">
              <a:rPr lang="en-US"/>
              <a:t>07/29/26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RAW Driver Coding Style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alibri"/>
              </a:rPr>
              <a:t>Please Follow SD6 coding conven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0033cc"/>
                </a:solidFill>
                <a:uFillTx/>
                <a:latin typeface="Calibri"/>
                <a:hlinkClick r:id="rId2"/>
              </a:rPr>
              <a:t>\\rtdomain\fs\CN_Switch\Project\</a:t>
            </a:r>
            <a:r>
              <a:rPr b="0" lang="zh-TW" sz="2000" spc="-1" strike="noStrike" u="sng">
                <a:solidFill>
                  <a:srgbClr val="0033cc"/>
                </a:solidFill>
                <a:uFillTx/>
                <a:latin typeface="Calibri"/>
                <a:hlinkClick r:id="rId3"/>
              </a:rPr>
              <a:t>新手懶人包</a:t>
            </a:r>
            <a:r>
              <a:rPr b="0" lang="zh-TW" sz="2000" spc="-1" strike="noStrike" u="sng">
                <a:solidFill>
                  <a:srgbClr val="0033cc"/>
                </a:solidFill>
                <a:uFillTx/>
                <a:latin typeface="Calibri"/>
                <a:hlinkClick r:id="rId4"/>
              </a:rPr>
              <a:t>\V0.0.7\02_CodingConvention.pd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Register Access dri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26920" indent="-285480">
              <a:lnSpc>
                <a:spcPct val="85000"/>
              </a:lnSpc>
              <a:spcBef>
                <a:spcPts val="312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Register acces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826920" indent="-285480">
              <a:lnSpc>
                <a:spcPct val="85000"/>
              </a:lnSpc>
              <a:spcBef>
                <a:spcPts val="312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Register array acces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826920" indent="-285480">
              <a:lnSpc>
                <a:spcPct val="85000"/>
              </a:lnSpc>
              <a:spcBef>
                <a:spcPts val="312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Example code: apollo\ReadMe\sdk_coding\sample code\reg_access.c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826920" indent="0">
              <a:lnSpc>
                <a:spcPct val="8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826920" indent="0">
              <a:lnSpc>
                <a:spcPct val="85000"/>
              </a:lnSpc>
              <a:spcBef>
                <a:spcPts val="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Table Access dri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26920" indent="-285480">
              <a:lnSpc>
                <a:spcPct val="85000"/>
              </a:lnSpc>
              <a:spcBef>
                <a:spcPts val="312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Example code: apollo\ReadMe\sdk_coding\sample code\table_access.c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826920" indent="0">
              <a:lnSpc>
                <a:spcPct val="85000"/>
              </a:lnSpc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826920" indent="0">
              <a:lnSpc>
                <a:spcPct val="85000"/>
              </a:lnSpc>
              <a:spcBef>
                <a:spcPts val="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826920" indent="0">
              <a:lnSpc>
                <a:spcPct val="85000"/>
              </a:lnSpc>
              <a:spcBef>
                <a:spcPts val="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Do not add “printf” in your source code!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temp debug you can use “</a:t>
            </a:r>
            <a:r>
              <a:rPr b="0" lang="zh-TW" sz="2400" spc="-1" strike="noStrike">
                <a:solidFill>
                  <a:srgbClr val="000000"/>
                </a:solidFill>
                <a:latin typeface="Calibri"/>
              </a:rPr>
              <a:t>osal_printf”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A54FB-7B51-44B9-A3DD-2BEF5DD5A49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B9E8FED-3194-42B0-807D-F111BFFF125E}" type="datetime1">
              <a:rPr lang="en-US"/>
              <a:t>07/29/2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Special Mode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EX: HAS HSB</a:t>
            </a:r>
            <a:endParaRPr b="1" lang="en-US" sz="2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利用 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Table Utility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讀寫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Register Dat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利用 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Register Access API 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讀寫 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ASIC Register 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的內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cc"/>
                </a:solidFill>
                <a:latin typeface="Calibri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int32 apollo_raw_l34_hsaData_get(apollo_raw_l34_hsa_t *hsaDat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A5F16-9B89-4E74-8924-AC7FACB329B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805E971-2C5E-4511-A816-1034DA2C7A71}" type="datetime1">
              <a:rPr lang="en-US"/>
              <a:t>07/29/26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99"/>
                </a:solidFill>
                <a:latin typeface="Calibri"/>
              </a:rPr>
              <a:t>How to Make your Driver Code[Diag Shell]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45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Add file in </a:t>
            </a:r>
            <a:r>
              <a:rPr b="0" lang="zh-TW" sz="1800" spc="-1" strike="noStrike">
                <a:solidFill>
                  <a:srgbClr val="0033cc"/>
                </a:solidFill>
                <a:latin typeface="Calibri"/>
              </a:rPr>
              <a:t>apollo\sdk\src\dal\apollo\raw\apollo_raw_[</a:t>
            </a:r>
            <a:r>
              <a:rPr b="0" lang="zh-TW" sz="1800" spc="-1" strike="noStrike">
                <a:solidFill>
                  <a:srgbClr val="ff0000"/>
                </a:solidFill>
                <a:latin typeface="Calibri"/>
              </a:rPr>
              <a:t>your_module</a:t>
            </a:r>
            <a:r>
              <a:rPr b="0" lang="zh-TW" sz="1800" spc="-1" strike="noStrike">
                <a:solidFill>
                  <a:srgbClr val="0033cc"/>
                </a:solidFill>
                <a:latin typeface="Calibri"/>
              </a:rPr>
              <a:t>].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Edit apollo\internal\apollo\diagShellCygwin\build\Makefile.r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45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Calibri"/>
              </a:rPr>
              <a:t>Add </a:t>
            </a:r>
            <a:r>
              <a:rPr b="0" lang="zh-TW" sz="1800" spc="-1" strike="noStrike">
                <a:solidFill>
                  <a:srgbClr val="0033cc"/>
                </a:solidFill>
                <a:latin typeface="Calibri"/>
              </a:rPr>
              <a:t>apollo_raw_[</a:t>
            </a:r>
            <a:r>
              <a:rPr b="0" lang="zh-TW" sz="1800" spc="-1" strike="noStrike">
                <a:solidFill>
                  <a:srgbClr val="ff0000"/>
                </a:solidFill>
                <a:latin typeface="Calibri"/>
              </a:rPr>
              <a:t>your_module</a:t>
            </a:r>
            <a:r>
              <a:rPr b="0" lang="zh-TW" sz="1800" spc="-1" strike="noStrike">
                <a:solidFill>
                  <a:srgbClr val="0033cc"/>
                </a:solidFill>
                <a:latin typeface="Calibri"/>
              </a:rPr>
              <a:t>].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26920" indent="-285480">
              <a:lnSpc>
                <a:spcPct val="95000"/>
              </a:lnSpc>
              <a:spcBef>
                <a:spcPts val="275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>
                <a:solidFill>
                  <a:srgbClr val="0033cc"/>
                </a:solidFill>
                <a:latin typeface="Calibri"/>
              </a:rPr>
              <a:t>增加到相對位置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826920" indent="0">
              <a:lnSpc>
                <a:spcPct val="9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826920" indent="0">
              <a:lnSpc>
                <a:spcPct val="9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45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cc"/>
                </a:solidFill>
                <a:latin typeface="Calibri"/>
              </a:rPr>
              <a:t>Make your code via Cygw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26920" indent="-285480">
              <a:lnSpc>
                <a:spcPct val="95000"/>
              </a:lnSpc>
              <a:spcBef>
                <a:spcPts val="312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Set path to “apollo\internal\apollo\diagShellCygwin\”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826920" indent="-285480">
              <a:lnSpc>
                <a:spcPct val="95000"/>
              </a:lnSpc>
              <a:spcBef>
                <a:spcPts val="312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make al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826920" indent="0">
              <a:lnSpc>
                <a:spcPct val="95000"/>
              </a:lnSpc>
              <a:spcBef>
                <a:spcPts val="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10D6B-398F-4357-911F-387EF7EC69C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C2C678C-5FDD-4D2C-9F05-DC4DEA258D82}" type="datetime1">
              <a:rPr lang="en-US"/>
              <a:t>07/29/26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RTK API Auto Code Generator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S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26920" indent="-285480">
              <a:lnSpc>
                <a:spcPct val="95000"/>
              </a:lnSpc>
              <a:spcBef>
                <a:spcPts val="312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apollo\sdk\sdk_autogen\readme.tx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E1FDD-B610-47C4-883A-324E42A878D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9EEFF7B-8882-45B1-B7AE-A571519F5A53}" type="datetime1">
              <a:rPr lang="en-US"/>
              <a:t>07/29/26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907920"/>
            <a:ext cx="838224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ollo Code 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IC driver coding util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ding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to make your Driver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TK API Code code-ge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Impact"/>
              </a:rPr>
              <a:t>Outline</a:t>
            </a:r>
            <a:endParaRPr b="1" lang="en-US" sz="2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B0F79-740A-4F24-B583-3716BD1325B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027BDDA-00D2-4BE4-9DCA-99CCEB47ED95}" type="datetime1">
              <a:rPr lang="en-US"/>
              <a:t>07/29/26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Source Code Path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Source code pa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alibri"/>
              </a:rPr>
              <a:t>http://cadinfo.realtek.com.tw/svn/CN/Switch/trunk/dumb/apol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C41FB-AAFD-43FB-A5A4-497A5A1EA37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A2D360D-A5B7-4C45-9734-233172035F3E}" type="datetime1">
              <a:rPr lang="en-US"/>
              <a:t>07/29/26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Apollo SDK Basic Concep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239840" y="920880"/>
          <a:ext cx="6664320" cy="524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39840" y="920880"/>
                    <a:ext cx="6664320" cy="52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415D6-FCD1-4A76-9507-498B2BDCD3B5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D3F5420-303E-4A5C-951D-C20A44BB716E}" type="datetime1">
              <a:rPr lang="en-US"/>
              <a:t>07/29/26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84360" y="765000"/>
            <a:ext cx="2854080" cy="5759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99"/>
                </a:solidFill>
                <a:latin typeface="Calibri"/>
              </a:rPr>
              <a:t>SDK </a:t>
            </a:r>
            <a:r>
              <a:rPr b="1" lang="zh-TW" sz="3200" spc="-1" strike="noStrike">
                <a:solidFill>
                  <a:srgbClr val="333399"/>
                </a:solidFill>
                <a:latin typeface="Calibri"/>
              </a:rPr>
              <a:t>檔案架構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3203640" y="1555920"/>
            <a:ext cx="934920" cy="288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4d4d4d"/>
                </a:solidFill>
                <a:latin typeface="Impact"/>
              </a:rPr>
              <a:t>Diag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16000" y="2421000"/>
            <a:ext cx="2303640" cy="3887640"/>
          </a:xfrm>
          <a:prstGeom prst="rect">
            <a:avLst/>
          </a:prstGeom>
          <a:solidFill>
            <a:srgbClr val="00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43280" y="5516640"/>
            <a:ext cx="2089080" cy="288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Impact"/>
              </a:rPr>
              <a:t>RAW DR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F0321-77E4-4B35-8D37-F7A9EC587BEA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A1EF41A-A2CF-4273-9D58-E320E64B2811}" type="datetime1">
              <a:rPr lang="en-US"/>
              <a:t>07/29/26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ASIC driver coding utility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45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Register Access Ut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45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Table Access Ut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45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Utility is base on RealGen outp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116000" y="2781360"/>
          <a:ext cx="6481800" cy="340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2781360"/>
                    <a:ext cx="6481800" cy="34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4CA45-4031-479C-9CE8-73EFB0FB54D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2349FC9-1AF3-420C-A9F9-ADCEAEBC2FC0}" type="datetime1">
              <a:rPr lang="en-US"/>
              <a:t>07/29/2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Register Access Utility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cc"/>
                </a:solidFill>
                <a:latin typeface="Calibri"/>
              </a:rPr>
              <a:t>Direct ASIC Ac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int32 reg_field_read(uint32  </a:t>
            </a:r>
            <a:r>
              <a:rPr b="0" lang="zh-TW" sz="1800" spc="-1" strike="noStrike">
                <a:solidFill>
                  <a:srgbClr val="ff0000"/>
                </a:solidFill>
                <a:latin typeface="Calibri"/>
              </a:rPr>
              <a:t>reg</a:t>
            </a: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,uint32  </a:t>
            </a:r>
            <a:r>
              <a:rPr b="0" lang="zh-TW" sz="1800" spc="-1" strike="noStrike">
                <a:solidFill>
                  <a:srgbClr val="339933"/>
                </a:solidFill>
                <a:latin typeface="Calibri"/>
              </a:rPr>
              <a:t>field</a:t>
            </a: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,uint32  *pValu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int32 reg_field_write(uint32  reg,uint32  field,uint32  *pValu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int32 reg_read(uint32 </a:t>
            </a:r>
            <a:r>
              <a:rPr b="0" lang="zh-TW" sz="1800" spc="-1" strike="noStrike">
                <a:solidFill>
                  <a:srgbClr val="ff0000"/>
                </a:solidFill>
                <a:latin typeface="Calibri"/>
              </a:rPr>
              <a:t>reg</a:t>
            </a: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, uint32 *pValu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int32 reg_write(uint32 reg, uint32 *pValu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cc"/>
                </a:solidFill>
                <a:latin typeface="Calibri"/>
              </a:rPr>
              <a:t>RAM Buffer Ac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int32 reg_field_get(uint32  reg, uint32  field, uint32  *pValue, uint32  </a:t>
            </a:r>
            <a:r>
              <a:rPr b="0" lang="zh-TW" sz="1800" spc="-1" strike="noStrike">
                <a:solidFill>
                  <a:srgbClr val="808000"/>
                </a:solidFill>
                <a:latin typeface="Calibri"/>
              </a:rPr>
              <a:t>*pData</a:t>
            </a: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int32 reg_field_set(uint32  reg,uint32  field,uint32  *pValue, uint32  *pDat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Register and field define in “</a:t>
            </a:r>
            <a:r>
              <a:rPr b="0" lang="zh-TW" sz="1800" spc="-1" strike="noStrike">
                <a:solidFill>
                  <a:srgbClr val="ff0000"/>
                </a:solidFill>
                <a:latin typeface="Calibri"/>
              </a:rPr>
              <a:t>apollo_reg_struct.h</a:t>
            </a: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or using PDF fil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0000"/>
                </a:solidFill>
                <a:latin typeface="Calibri"/>
              </a:rPr>
              <a:t>apollo\sdk\include\hal\chipdef\apollo\APOLLO_RegisterFile.pd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API </a:t>
            </a: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的填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reg   </a:t>
            </a:r>
            <a:r>
              <a:rPr b="0" lang="zh-TW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TW" sz="1800" spc="-1" strike="noStrike">
                <a:solidFill>
                  <a:srgbClr val="0033cc"/>
                </a:solidFill>
                <a:latin typeface="Calibri"/>
              </a:rPr>
              <a:t>REGISTER_NAME</a:t>
            </a:r>
            <a:r>
              <a:rPr b="0" lang="zh-TW" sz="1800" spc="-1" strike="noStrike">
                <a:solidFill>
                  <a:srgbClr val="ff0000"/>
                </a:solidFill>
                <a:latin typeface="Calibri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field  </a:t>
            </a:r>
            <a:r>
              <a:rPr b="0" lang="zh-TW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TW" sz="1800" spc="-1" strike="noStrike">
                <a:solidFill>
                  <a:srgbClr val="0033cc"/>
                </a:solidFill>
                <a:latin typeface="Calibri"/>
              </a:rPr>
              <a:t>FILED_NAME</a:t>
            </a:r>
            <a:r>
              <a:rPr b="0" lang="zh-TW" sz="1800" spc="-1" strike="noStrike">
                <a:solidFill>
                  <a:srgbClr val="ff0000"/>
                </a:solidFill>
                <a:latin typeface="Calibri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AABA2-F33B-4FFF-A51E-5D13CF2B550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A743FBD-4FE8-4ABD-8070-0B324F15D6E8}" type="datetime1">
              <a:rPr lang="en-US"/>
              <a:t>07/29/26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Register Array Access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Calibri"/>
              </a:rPr>
              <a:t>Direct ASIC Ac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Calibri"/>
              </a:rPr>
              <a:t>int32 reg_array_read(uint32 reg, int32 index_1, int32 index_2, uint32 *pValu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Calibri"/>
              </a:rPr>
              <a:t>int32 reg_array_write(uint32 reg, int32 index_1, int32 index_2, uint32 *pValu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Calibri"/>
              </a:rPr>
              <a:t>int32 reg_array_field_read(uint32  reg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zh-TW" sz="1600" spc="-1" strike="noStrike">
                <a:solidFill>
                  <a:srgbClr val="000000"/>
                </a:solidFill>
                <a:latin typeface="Calibri"/>
              </a:rPr>
              <a:t>int32   index_1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zh-TW" sz="1600" spc="-1" strike="noStrike">
                <a:solidFill>
                  <a:srgbClr val="000000"/>
                </a:solidFill>
                <a:latin typeface="Calibri"/>
              </a:rPr>
              <a:t>int32   index_2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zh-TW" sz="1600" spc="-1" strike="noStrike">
                <a:solidFill>
                  <a:srgbClr val="000000"/>
                </a:solidFill>
                <a:latin typeface="Calibri"/>
              </a:rPr>
              <a:t>uint32  field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zh-TW" sz="1600" spc="-1" strike="noStrike">
                <a:solidFill>
                  <a:srgbClr val="000000"/>
                </a:solidFill>
                <a:latin typeface="Calibri"/>
              </a:rPr>
              <a:t>uint32  *pValu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Calibri"/>
              </a:rPr>
              <a:t>int32 reg_array_field_write(uint32  reg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zh-TW" sz="1600" spc="-1" strike="noStrike">
                <a:solidFill>
                  <a:srgbClr val="000000"/>
                </a:solidFill>
                <a:latin typeface="Calibri"/>
              </a:rPr>
              <a:t>int32   index_1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zh-TW" sz="1600" spc="-1" strike="noStrike">
                <a:solidFill>
                  <a:srgbClr val="000000"/>
                </a:solidFill>
                <a:latin typeface="Calibri"/>
              </a:rPr>
              <a:t>int32   index_2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zh-TW" sz="1600" spc="-1" strike="noStrike">
                <a:solidFill>
                  <a:srgbClr val="000000"/>
                </a:solidFill>
                <a:latin typeface="Calibri"/>
              </a:rPr>
              <a:t>uint32  field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zh-TW" sz="1600" spc="-1" strike="noStrike">
                <a:solidFill>
                  <a:srgbClr val="000000"/>
                </a:solidFill>
                <a:latin typeface="Calibri"/>
              </a:rPr>
              <a:t>uint32  *pValu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Calibri"/>
              </a:rPr>
              <a:t>若為 一維</a:t>
            </a:r>
            <a:r>
              <a:rPr b="0" lang="zh-TW" sz="1600" spc="-1" strike="noStrike">
                <a:solidFill>
                  <a:srgbClr val="000000"/>
                </a:solidFill>
                <a:latin typeface="Calibri"/>
              </a:rPr>
              <a:t>array  </a:t>
            </a:r>
            <a:r>
              <a:rPr b="0" lang="zh-TW" sz="1600" spc="-1" strike="noStrike">
                <a:solidFill>
                  <a:srgbClr val="000000"/>
                </a:solidFill>
                <a:latin typeface="Calibri"/>
              </a:rPr>
              <a:t>其中一個</a:t>
            </a:r>
            <a:r>
              <a:rPr b="0" lang="zh-TW" sz="1600" spc="-1" strike="noStrike">
                <a:solidFill>
                  <a:srgbClr val="000000"/>
                </a:solidFill>
                <a:latin typeface="Calibri"/>
              </a:rPr>
              <a:t>index </a:t>
            </a:r>
            <a:r>
              <a:rPr b="0" lang="zh-TW" sz="1600" spc="-1" strike="noStrike">
                <a:solidFill>
                  <a:srgbClr val="000000"/>
                </a:solidFill>
                <a:latin typeface="Calibri"/>
              </a:rPr>
              <a:t>請填</a:t>
            </a:r>
            <a:r>
              <a:rPr b="0" lang="zh-TW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zh-TW" sz="2000" spc="-1" strike="noStrike">
                <a:solidFill>
                  <a:srgbClr val="ff0000"/>
                </a:solidFill>
                <a:latin typeface="Calibri"/>
              </a:rPr>
              <a:t>REG_ARRAY_INDEX_N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350FC-6275-4832-BE9A-24194081027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2565851-9D97-4459-9DDB-7A57E13C4BDC}" type="datetime1">
              <a:rPr lang="en-US"/>
              <a:t>07/29/26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Register Access notice!!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正常使方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alibri"/>
              </a:rPr>
              <a:t>(a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alibri"/>
              </a:rPr>
              <a:t>reg_</a:t>
            </a:r>
            <a:r>
              <a:rPr b="0" lang="zh-TW" sz="1400" spc="-1" strike="noStrike">
                <a:solidFill>
                  <a:srgbClr val="339933"/>
                </a:solidFill>
                <a:latin typeface="Calibri"/>
              </a:rPr>
              <a:t>array</a:t>
            </a:r>
            <a:r>
              <a:rPr b="0" lang="zh-TW" sz="1400" spc="-1" strike="noStrike">
                <a:solidFill>
                  <a:srgbClr val="000000"/>
                </a:solidFill>
                <a:latin typeface="Calibri"/>
              </a:rPr>
              <a:t>_read(&amp;data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alibri"/>
              </a:rPr>
              <a:t>reg_field_set(fieldX,&amp;data,&amp;val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alibri"/>
              </a:rPr>
              <a:t>reg_field_set(fieldY,&amp;data,&amp;val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alibri"/>
              </a:rPr>
              <a:t>reg_</a:t>
            </a:r>
            <a:r>
              <a:rPr b="0" lang="zh-TW" sz="1400" spc="-1" strike="noStrike">
                <a:solidFill>
                  <a:srgbClr val="339933"/>
                </a:solidFill>
                <a:latin typeface="Calibri"/>
              </a:rPr>
              <a:t>array</a:t>
            </a:r>
            <a:r>
              <a:rPr b="0" lang="zh-TW" sz="1400" spc="-1" strike="noStrike">
                <a:solidFill>
                  <a:srgbClr val="000000"/>
                </a:solidFill>
                <a:latin typeface="Calibri"/>
              </a:rPr>
              <a:t>_write(&amp;data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alibri"/>
              </a:rPr>
              <a:t>(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alibri"/>
              </a:rPr>
              <a:t>reg_array_read(&amp;data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alibri"/>
              </a:rPr>
              <a:t>reg_field_get(fieldX,&amp;data,&amp;val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alibri"/>
              </a:rPr>
              <a:t>reg_field_get(fieldY,&amp;data,&amp;val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因為</a:t>
            </a: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register array </a:t>
            </a: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不一定是 </a:t>
            </a: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32bit, </a:t>
            </a: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所以使用上 </a:t>
            </a: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data </a:t>
            </a: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宣告的</a:t>
            </a: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必須視</a:t>
            </a: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register </a:t>
            </a: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真正大小而有不同</a:t>
            </a: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避免不必要的錯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0000"/>
                </a:solidFill>
                <a:latin typeface="Calibri"/>
              </a:rPr>
              <a:t>RAW driver coding </a:t>
            </a:r>
            <a:r>
              <a:rPr b="0" lang="zh-TW" sz="1800" spc="-1" strike="noStrike">
                <a:solidFill>
                  <a:srgbClr val="ff0000"/>
                </a:solidFill>
                <a:latin typeface="Calibri"/>
              </a:rPr>
              <a:t>對於</a:t>
            </a:r>
            <a:r>
              <a:rPr b="0" lang="zh-TW" sz="1800" spc="-1" strike="noStrike">
                <a:solidFill>
                  <a:srgbClr val="ff0000"/>
                </a:solidFill>
                <a:latin typeface="Calibri"/>
              </a:rPr>
              <a:t>register access</a:t>
            </a:r>
            <a:r>
              <a:rPr b="0" lang="zh-TW" sz="1800" spc="-1" strike="noStrike">
                <a:solidFill>
                  <a:srgbClr val="ff0000"/>
                </a:solidFill>
                <a:latin typeface="Calibri"/>
              </a:rPr>
              <a:t>請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cc"/>
                </a:solidFill>
                <a:latin typeface="Calibri"/>
              </a:rPr>
              <a:t>reg_array_field_read/ reg_field_rea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cc"/>
                </a:solidFill>
                <a:latin typeface="Calibri"/>
              </a:rPr>
              <a:t>reg_array_field_write/reg_field_wri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cc"/>
                </a:solidFill>
                <a:latin typeface="Calibri"/>
              </a:rPr>
              <a:t>雖然在多個</a:t>
            </a:r>
            <a:r>
              <a:rPr b="0" lang="zh-TW" sz="1400" spc="-1" strike="noStrike">
                <a:solidFill>
                  <a:srgbClr val="0033cc"/>
                </a:solidFill>
                <a:latin typeface="Calibri"/>
              </a:rPr>
              <a:t>field </a:t>
            </a:r>
            <a:r>
              <a:rPr b="0" lang="zh-TW" sz="1400" spc="-1" strike="noStrike">
                <a:solidFill>
                  <a:srgbClr val="0033cc"/>
                </a:solidFill>
                <a:latin typeface="Calibri"/>
              </a:rPr>
              <a:t>的運用上會浪費</a:t>
            </a:r>
            <a:r>
              <a:rPr b="0" lang="zh-TW" sz="1400" spc="-1" strike="noStrike">
                <a:solidFill>
                  <a:srgbClr val="0033cc"/>
                </a:solidFill>
                <a:latin typeface="Calibri"/>
              </a:rPr>
              <a:t>I/O </a:t>
            </a:r>
            <a:r>
              <a:rPr b="0" lang="zh-TW" sz="1400" spc="-1" strike="noStrike">
                <a:solidFill>
                  <a:srgbClr val="0033cc"/>
                </a:solidFill>
                <a:latin typeface="Calibri"/>
              </a:rPr>
              <a:t>但比較保險</a:t>
            </a:r>
            <a:r>
              <a:rPr b="0" lang="zh-TW" sz="1400" spc="-1" strike="noStrike">
                <a:solidFill>
                  <a:srgbClr val="0033cc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cc"/>
                </a:solidFill>
                <a:latin typeface="Calibri"/>
              </a:rPr>
              <a:t>(</a:t>
            </a:r>
            <a:r>
              <a:rPr b="0" lang="zh-TW" sz="1400" spc="-1" strike="noStrike">
                <a:solidFill>
                  <a:srgbClr val="0033cc"/>
                </a:solidFill>
                <a:latin typeface="Calibri"/>
              </a:rPr>
              <a:t>不需要為了省</a:t>
            </a:r>
            <a:r>
              <a:rPr b="0" lang="zh-TW" sz="1400" spc="-1" strike="noStrike">
                <a:solidFill>
                  <a:srgbClr val="0033cc"/>
                </a:solidFill>
                <a:latin typeface="Calibri"/>
              </a:rPr>
              <a:t>I/O </a:t>
            </a:r>
            <a:r>
              <a:rPr b="0" lang="zh-TW" sz="1400" spc="-1" strike="noStrike">
                <a:solidFill>
                  <a:srgbClr val="0033cc"/>
                </a:solidFill>
                <a:latin typeface="Calibri"/>
              </a:rPr>
              <a:t>次數</a:t>
            </a:r>
            <a:r>
              <a:rPr b="0" lang="zh-TW" sz="1400" spc="-1" strike="noStrike">
                <a:solidFill>
                  <a:srgbClr val="0033cc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81F98-4E3F-433F-A459-84238FE4514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A40871C-3CB0-48E6-90C5-97D8C9FE01E5}" type="datetime1">
              <a:rPr lang="en-US"/>
              <a:t>07/29/26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08:00:17Z</dcterms:created>
  <dc:creator>Realtek</dc:creator>
  <dc:description>RTL8370/67 Spec. </dc:description>
  <dc:language>en-US</dc:language>
  <cp:lastModifiedBy>happa</cp:lastModifiedBy>
  <dcterms:modified xsi:type="dcterms:W3CDTF">2011-09-05T08:53:17Z</dcterms:modified>
  <cp:revision>1445</cp:revision>
  <dc:subject/>
  <dc:title>RTL8370/67 Spec. </dc:title>
</cp:coreProperties>
</file>